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A25-3F6B-44F3-8753-C788B124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B8E-A81C-4A91-923A-AE69E4C6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C5F-08F3-46D9-A5A4-BFC86094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8FE-D70B-4A06-A03E-80DC3AAD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895-3CF0-4976-8A85-308768BF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C9F-2FD4-471B-9934-3A4F745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08F-A7A2-4894-81EE-84E5D4E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2B7-DB92-4978-B036-86908609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A06-687E-4727-BFAB-F2925A95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5B6-4BB8-4D34-98AD-8CCB475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963-FA5C-40FA-931D-2F86E75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475-58FC-4EDE-956F-C626DDA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2671-D9ED-4DAE-9861-E3AC4F911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3124080"/>
            <a:ext cx="1828800" cy="3812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358000">
            <a:off x="799200" y="3009960"/>
            <a:ext cx="381240" cy="6094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medie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765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74320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080" y="175248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manzor saquea Santiago de Composte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gemonía musulman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536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visión del califato en reinos de taif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6440" y="6858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7142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Cid conquista Valenci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229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2952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rnando III conquista      Sevilla. Culmina el dominio sobre Andaluc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7720" y="457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12952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staura en Castilla la dinastía Trastáma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5720" y="16002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2590920"/>
            <a:ext cx="106704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quista de Toledo. Avance de la Reconquista hacia el su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608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600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Batalla de Navas de Tolosa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os cristianos penetran en Andaluc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6104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5811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lfonso X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Sabio es nombrado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rey de León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 de Castill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362320" y="2971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096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1956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9720" y="554364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2387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lo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4364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Glosas emilianenses y silenses. Primeros ejemplos de romance escrit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1764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8098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posición de las jarchas más antiguas conservad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238720"/>
            <a:ext cx="10670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Fecha probable de composición d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oema de mio Cid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8720" y="4114800"/>
            <a:ext cx="10670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1148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</a:t>
            </a:r>
            <a:br>
              <a:rPr sz="1100"/>
            </a:b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e Berce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pon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ilagros de Nuestra Seño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466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6516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Dant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ivina Comedi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2440" y="41148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1148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on Juan Manue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compone 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ibro Patroni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onde Lucan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6840" y="554364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ibro de buen amor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08960" y="41148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809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4114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ópez de Ayal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Rimado de palac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1440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467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1629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1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02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565200" cy="857520"/>
          </a:xfrm>
          <a:prstGeom prst="rect">
            <a:avLst/>
          </a:prstGeom>
          <a:ln w="0">
            <a:noFill/>
          </a:ln>
        </p:spPr>
      </p:pic>
      <p:pic>
        <p:nvPicPr>
          <p:cNvPr id="121" name="03" descr=""/>
          <p:cNvPicPr/>
          <p:nvPr/>
        </p:nvPicPr>
        <p:blipFill>
          <a:blip r:embed="rId3"/>
          <a:stretch/>
        </p:blipFill>
        <p:spPr>
          <a:xfrm>
            <a:off x="4068720" y="18288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04" descr=""/>
          <p:cNvPicPr/>
          <p:nvPr/>
        </p:nvPicPr>
        <p:blipFill>
          <a:blip r:embed="rId4"/>
          <a:stretch/>
        </p:blipFill>
        <p:spPr>
          <a:xfrm>
            <a:off x="3676680" y="5543640"/>
            <a:ext cx="514440" cy="780840"/>
          </a:xfrm>
          <a:prstGeom prst="rect">
            <a:avLst/>
          </a:prstGeom>
          <a:ln w="0">
            <a:noFill/>
          </a:ln>
        </p:spPr>
      </p:pic>
      <p:pic>
        <p:nvPicPr>
          <p:cNvPr id="123" name="05" descr=""/>
          <p:cNvPicPr/>
          <p:nvPr/>
        </p:nvPicPr>
        <p:blipFill>
          <a:blip r:embed="rId5"/>
          <a:stretch/>
        </p:blipFill>
        <p:spPr>
          <a:xfrm>
            <a:off x="4800600" y="5562720"/>
            <a:ext cx="571680" cy="723960"/>
          </a:xfrm>
          <a:prstGeom prst="rect">
            <a:avLst/>
          </a:prstGeom>
          <a:ln w="0">
            <a:noFill/>
          </a:ln>
        </p:spPr>
      </p:pic>
      <p:pic>
        <p:nvPicPr>
          <p:cNvPr id="124" name="06" descr=""/>
          <p:cNvPicPr/>
          <p:nvPr/>
        </p:nvPicPr>
        <p:blipFill>
          <a:blip r:embed="rId6"/>
          <a:stretch/>
        </p:blipFill>
        <p:spPr>
          <a:xfrm>
            <a:off x="7543800" y="6095880"/>
            <a:ext cx="76212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3124080"/>
            <a:ext cx="76960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rancisco Franco jefe del Estad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39-197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urante el franquism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1676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30880" y="16765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probación de la Ley Orgánic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l Est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89640" y="17524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0080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00800" y="17654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Llegada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hombre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a la Lu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9720" y="55627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0880" y="5257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56386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la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familia de Pascual Duar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8160" y="3808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43000" y="3808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irada d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embajadores de los países miembros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la ON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54864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50040" y="51814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162920" y="5486400"/>
            <a:ext cx="1207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onzalo Torrente Ballester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saga/fuga de J.B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08960" y="6094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012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43800" y="68580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e Franco. Juan Carlos I, rey de Españ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41520" y="60948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2680" y="13716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6094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ña entra a formar pa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la O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198800">
            <a:off x="8379360" y="3126240"/>
            <a:ext cx="534960" cy="5335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04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880" y="18288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 la Segunda Guerra Mundial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33720" y="1676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44880" y="2514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44880" y="1673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rma del tratado de ayuda militar con EE.UU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84120" y="4340160"/>
            <a:ext cx="1067040" cy="6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95280" y="40356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44164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ámaso Alons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Hijos de la i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51160" y="555948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525456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5635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Buero Vallejo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ren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istoria de una escalera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6084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0" y="53341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95680" y="57150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uis Matín Sant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silenci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75240" y="533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5335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ucesos revolucionarios en Francia: “mayo del 68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65560" y="43434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6720" y="4038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0400" y="441972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Cel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Colme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32440" y="4343400"/>
            <a:ext cx="10666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4038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441972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ción de la antología poét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ueve novísimos poetas español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18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9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666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90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91440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7524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895480" y="36572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657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1055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772400" y="3657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37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1" name="38" descr=""/>
          <p:cNvPicPr/>
          <p:nvPr/>
        </p:nvPicPr>
        <p:blipFill>
          <a:blip r:embed="rId2"/>
          <a:stretch/>
        </p:blipFill>
        <p:spPr>
          <a:xfrm>
            <a:off x="3505320" y="480060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762" name="FC" descr=""/>
          <p:cNvPicPr/>
          <p:nvPr/>
        </p:nvPicPr>
        <p:blipFill>
          <a:blip r:embed="rId3"/>
          <a:stretch/>
        </p:blipFill>
        <p:spPr>
          <a:xfrm>
            <a:off x="2857680" y="838080"/>
            <a:ext cx="5522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09480" y="3124080"/>
            <a:ext cx="16002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9880" y="3124080"/>
            <a:ext cx="17528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124080"/>
            <a:ext cx="17524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15200" y="3124080"/>
            <a:ext cx="167652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hispanoamerica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9480" y="2362320"/>
            <a:ext cx="16002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NACIMI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26920" y="4572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15238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2120" y="533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inca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rcilas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 la Veg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omentarios re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36960" y="3808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48120" y="15238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84720" y="7621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1523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1992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lio Cortáza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vel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ayue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557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6880" y="5238720"/>
            <a:ext cx="106704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6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9092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or Juana Inés de la Cruz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esí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ueñ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13320" y="5543640"/>
            <a:ext cx="106704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523872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48520" y="56516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César Vallejo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oes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Tril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761240" y="5543640"/>
            <a:ext cx="1066680" cy="78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772400" y="52387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96080" y="554364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Vicente Huidobro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oesía.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ltaz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09680" y="3124080"/>
            <a:ext cx="1676520" cy="381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glo X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86200" y="2362320"/>
            <a:ext cx="2133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OCLASIC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81680" y="236232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ODERN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467480" y="2743200"/>
            <a:ext cx="15242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OM” NARRATIV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09680" y="3962520"/>
            <a:ext cx="160020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ARRO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3962520"/>
            <a:ext cx="12952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OMANTIC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3962520"/>
            <a:ext cx="1295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ANGUARDIS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0960" y="510552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62120" y="4800600"/>
            <a:ext cx="106668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5105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uiz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de Alarc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eatro.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verdad sospecho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37160" y="487692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8320" y="45720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0" y="48769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osé Hernández.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oesía narrativa.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El gaucho Martín Fier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84920" y="4572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96080" y="1523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0120" y="533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briel García Márque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 Novel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ien años de soleda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37160" y="76212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8320" y="15238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drés Bello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oesía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agricultura de la zona tórri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esía.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zul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059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81680" y="175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81680" y="2057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57800" y="2209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242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716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767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1814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81480" y="441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47712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53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0" y="4419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3059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39" descr=""/>
          <p:cNvPicPr/>
          <p:nvPr/>
        </p:nvPicPr>
        <p:blipFill>
          <a:blip r:embed="rId1"/>
          <a:stretch/>
        </p:blipFill>
        <p:spPr>
          <a:xfrm>
            <a:off x="3581280" y="5715000"/>
            <a:ext cx="655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3124080"/>
            <a:ext cx="2514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 II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06-145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3124080"/>
            <a:ext cx="25146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rique IV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54-147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124080"/>
            <a:ext cx="22860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 de Castill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474-150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358000">
            <a:off x="228240" y="3044520"/>
            <a:ext cx="53316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Prerrenacimi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1120" y="152388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120" y="25909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1600200"/>
            <a:ext cx="1131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icia la construcción de la catedral gótica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 Sevilla.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0440" y="457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335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erras entre Castilla y Arag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65560" y="1522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129528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1736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oma de Nápoles por Alfonso V. Hegemonía de Aragón en el Mediterráne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8040" y="324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131436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80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tenberg imprime la Biblia, primera obra impre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27720" y="152280"/>
            <a:ext cx="1067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1295280"/>
            <a:ext cx="106704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1522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quista de Granada, expulsión de los judíos y descubrimiento de Amér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484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590920"/>
            <a:ext cx="106668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beliones nobiliarias en Casti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0364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93356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Nace Leonardo da Vinc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32440" y="16192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1000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1673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Matrimonio de Fernando de Aragón e Isabel de Castill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36196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158000">
            <a:off x="8229240" y="3047760"/>
            <a:ext cx="53352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976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2670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4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5720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Alfonso de Bae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recoge el primer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ancioner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de poesía castella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956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10666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cia 14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6292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marqués de Santilla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medieta de Ponz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0384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73724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iego de San Pedr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árcel de am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03640" y="4572000"/>
            <a:ext cx="1066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7214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orge Manrique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pon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Copl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457200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4267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05704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627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0020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0481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01992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40080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201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48006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Celestin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8" descr=""/>
          <p:cNvPicPr/>
          <p:nvPr/>
        </p:nvPicPr>
        <p:blipFill>
          <a:blip r:embed="rId1"/>
          <a:stretch/>
        </p:blipFill>
        <p:spPr>
          <a:xfrm>
            <a:off x="1081080" y="1600200"/>
            <a:ext cx="59544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07" descr=""/>
          <p:cNvPicPr/>
          <p:nvPr/>
        </p:nvPicPr>
        <p:blipFill>
          <a:blip r:embed="rId2"/>
          <a:stretch/>
        </p:blipFill>
        <p:spPr>
          <a:xfrm>
            <a:off x="3638520" y="1676520"/>
            <a:ext cx="55260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09" descr=""/>
          <p:cNvPicPr/>
          <p:nvPr/>
        </p:nvPicPr>
        <p:blipFill>
          <a:blip r:embed="rId3"/>
          <a:stretch/>
        </p:blipFill>
        <p:spPr>
          <a:xfrm>
            <a:off x="685800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10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8080" cy="560520"/>
          </a:xfrm>
          <a:prstGeom prst="rect">
            <a:avLst/>
          </a:prstGeom>
          <a:ln w="0">
            <a:noFill/>
          </a:ln>
        </p:spPr>
      </p:pic>
      <p:pic>
        <p:nvPicPr>
          <p:cNvPr id="193" name="11" descr=""/>
          <p:cNvPicPr/>
          <p:nvPr/>
        </p:nvPicPr>
        <p:blipFill>
          <a:blip r:embed="rId5"/>
          <a:stretch/>
        </p:blipFill>
        <p:spPr>
          <a:xfrm>
            <a:off x="4929120" y="4648320"/>
            <a:ext cx="6336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31240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04-151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124080"/>
            <a:ext cx="29718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ado de Carlos 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16-155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3124080"/>
            <a:ext cx="22860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ado de Felipe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56-159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renacentis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590920"/>
            <a:ext cx="10670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1880" y="1917720"/>
            <a:ext cx="1131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ición de la Biblia Políglota Compluten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80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447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996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utero: tesis de Wittenberg. Comienz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reforma protesta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5040" y="4222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2193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érnico formula su teoría heliocéntric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3840" y="3240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31436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380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az de Cateau-Cambrésis: hegemoní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37560" y="3049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2952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2858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rrota de la Gran Armada; fin de la hegemoní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696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296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Hernán Cortés en México. 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inicia la conquista de Améric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65760" y="1600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2590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ienzo del Concilio de Trento (1545-1563); cisma de la Igles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3160" y="16192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26100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1600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augura el corral del Príncipe en Madrid; auge del teat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158000">
            <a:off x="8381880" y="3047760"/>
            <a:ext cx="533520" cy="68580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2560" y="4952880"/>
            <a:ext cx="10666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46483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9528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n póstumamente los poemas de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arcilas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5257800"/>
            <a:ext cx="10666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9528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31504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ncuentro de Boscán con Navagero; introducción de las formas métricas italian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5760" y="44197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1148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5846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nta Teres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libro de la vi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4160" y="52578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495288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54072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 el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zarillo de Torme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525780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4952880"/>
            <a:ext cx="106704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ray Luis de Le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e los nombres de Cris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124080"/>
            <a:ext cx="1219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yes Catól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12408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yes Catól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4419720"/>
            <a:ext cx="106668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1148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6483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n Juan de la Cru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lama de amor viv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37560" y="59436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563868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594036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rvant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Quijot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1.ª par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1447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971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6201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39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27672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7432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32448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70572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9246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686800" y="36572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1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880920" cy="576360"/>
          </a:xfrm>
          <a:prstGeom prst="rect">
            <a:avLst/>
          </a:prstGeom>
          <a:ln w="0">
            <a:noFill/>
          </a:ln>
        </p:spPr>
      </p:pic>
      <p:pic>
        <p:nvPicPr>
          <p:cNvPr id="272" name="13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0600" cy="857520"/>
          </a:xfrm>
          <a:prstGeom prst="rect">
            <a:avLst/>
          </a:prstGeom>
          <a:ln w="0">
            <a:noFill/>
          </a:ln>
        </p:spPr>
      </p:pic>
      <p:pic>
        <p:nvPicPr>
          <p:cNvPr id="273" name="14" descr=""/>
          <p:cNvPicPr/>
          <p:nvPr/>
        </p:nvPicPr>
        <p:blipFill>
          <a:blip r:embed="rId3"/>
          <a:stretch/>
        </p:blipFill>
        <p:spPr>
          <a:xfrm>
            <a:off x="1905120" y="5638680"/>
            <a:ext cx="62208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15" descr=""/>
          <p:cNvPicPr/>
          <p:nvPr/>
        </p:nvPicPr>
        <p:blipFill>
          <a:blip r:embed="rId4"/>
          <a:stretch/>
        </p:blipFill>
        <p:spPr>
          <a:xfrm>
            <a:off x="4038480" y="5943600"/>
            <a:ext cx="1143000" cy="549360"/>
          </a:xfrm>
          <a:prstGeom prst="rect">
            <a:avLst/>
          </a:prstGeom>
          <a:ln w="0">
            <a:noFill/>
          </a:ln>
        </p:spPr>
      </p:pic>
      <p:pic>
        <p:nvPicPr>
          <p:cNvPr id="275" name="16" descr=""/>
          <p:cNvPicPr/>
          <p:nvPr/>
        </p:nvPicPr>
        <p:blipFill>
          <a:blip r:embed="rId5"/>
          <a:stretch/>
        </p:blipFill>
        <p:spPr>
          <a:xfrm>
            <a:off x="7370640" y="5791320"/>
            <a:ext cx="63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124080"/>
            <a:ext cx="27432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I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598-162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3124080"/>
            <a:ext cx="312444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621-166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124080"/>
            <a:ext cx="2057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665-17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358000">
            <a:off x="114120" y="3159000"/>
            <a:ext cx="533160" cy="45720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barro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371600"/>
            <a:ext cx="1066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6040" y="25909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13716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ulsión d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moriscos: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agrava la decadencia de la agricultur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17640" y="971640"/>
            <a:ext cx="10666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20574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047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los Treinta Años: guerras de relig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70120" y="152280"/>
            <a:ext cx="10670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129528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05320" y="11736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rebeliones e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Península (Cataluña, Portugal y Andalucí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9440" y="15238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213372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1552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Velázquez pint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s menin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08960" y="1522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12952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209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e sin descendencia Carlos II, último rey de la casa de Austr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89640" y="1523880"/>
            <a:ext cx="1066680" cy="55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21556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1552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dependencia de Portug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158000">
            <a:off x="8418240" y="3234600"/>
            <a:ext cx="533160" cy="3049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6760" y="4267080"/>
            <a:ext cx="1066680" cy="108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962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2670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ope de Veg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rte nuevo de hacer comedia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: renovación del teatro nacion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5429160"/>
            <a:ext cx="106668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51246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hakespeare escrib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: se inicia el gran siglo del teatr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37360" y="4933800"/>
            <a:ext cx="106668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462924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50292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lderó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vida es sueñ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54864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02080" y="51814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25760" y="5486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óng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Fábula de Polifemo y Galat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58672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67480" y="55627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8960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raciá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El Criticó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532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2760" y="43434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0384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3434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ervantes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la segunda parte d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Quijo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5257800"/>
            <a:ext cx="1067040" cy="108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5105520"/>
            <a:ext cx="106704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54100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Historia del Buscón llamado don Pabl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, de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Queved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37560" y="4343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4038480"/>
            <a:ext cx="106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3808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81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048120" y="3657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1240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25780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5623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6272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012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01956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0199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077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44197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erte de Calderón: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l Barroco liter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17" descr=""/>
          <p:cNvPicPr/>
          <p:nvPr/>
        </p:nvPicPr>
        <p:blipFill>
          <a:blip r:embed="rId1"/>
          <a:stretch/>
        </p:blipFill>
        <p:spPr>
          <a:xfrm>
            <a:off x="5568840" y="762120"/>
            <a:ext cx="6796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18" descr=""/>
          <p:cNvPicPr/>
          <p:nvPr/>
        </p:nvPicPr>
        <p:blipFill>
          <a:blip r:embed="rId2"/>
          <a:stretch/>
        </p:blipFill>
        <p:spPr>
          <a:xfrm>
            <a:off x="1219320" y="5867280"/>
            <a:ext cx="730080" cy="838440"/>
          </a:xfrm>
          <a:prstGeom prst="rect">
            <a:avLst/>
          </a:prstGeom>
          <a:ln w="0">
            <a:noFill/>
          </a:ln>
        </p:spPr>
      </p:pic>
      <p:pic>
        <p:nvPicPr>
          <p:cNvPr id="346" name="19" descr=""/>
          <p:cNvPicPr/>
          <p:nvPr/>
        </p:nvPicPr>
        <p:blipFill>
          <a:blip r:embed="rId3"/>
          <a:stretch/>
        </p:blipFill>
        <p:spPr>
          <a:xfrm>
            <a:off x="2362320" y="4114800"/>
            <a:ext cx="603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57200" y="3124080"/>
            <a:ext cx="22860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lipe 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00-174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124080"/>
            <a:ext cx="17524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rnando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46-17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31240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59-178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3124080"/>
            <a:ext cx="190512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V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88-18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358000">
            <a:off x="-36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el siglo XVII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440" y="533520"/>
            <a:ext cx="1066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440" y="198108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609480"/>
            <a:ext cx="11318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Sucesión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tauración de la casa de Borbó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60440" y="137160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43828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12-17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371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undación de la Biblioteca Nacional y de la Real Academi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4360" y="457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1447920"/>
            <a:ext cx="106668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43812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public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ramáti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la Real Academia Española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61240" y="685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1371600"/>
            <a:ext cx="1066680" cy="228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6984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uerra de la Independencia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457200"/>
            <a:ext cx="1066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676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49440" y="457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Real Academia comienza la publicación del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iccionario de Autoridad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15238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57600" y="251460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159696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icia en Francia la publicación de l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ncicloped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18240" y="16765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66688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165744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francesa. Declaración de los Derechos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l Homb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0960" y="46483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34340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47242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eijo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nicia la publicación de su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tro crítico univers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74840" y="5410080"/>
            <a:ext cx="10666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5105520"/>
            <a:ext cx="10666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541008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gnacio Luzá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su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oéti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: se sienta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bases del Neoclasicismo liter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520" y="4495680"/>
            <a:ext cx="10670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4191120"/>
            <a:ext cx="10670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4956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riarte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su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Fábulas literari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61040" y="5391000"/>
            <a:ext cx="106668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508644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4990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publican póstumamente la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artas marruec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dals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84920" y="4800600"/>
            <a:ext cx="1067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4495680"/>
            <a:ext cx="106704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48006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eandro Fernández Moratí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í de las niñ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155600">
            <a:off x="8571600" y="3238920"/>
            <a:ext cx="534960" cy="30492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05920" y="1600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86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5684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57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295280" y="3657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7432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8072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81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9528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2940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238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57200" y="3124080"/>
            <a:ext cx="129528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rlos IV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788-18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95480" y="3124080"/>
            <a:ext cx="2133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ernando V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14-183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3124080"/>
            <a:ext cx="1905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33-184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34320" y="3124080"/>
            <a:ext cx="19047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43-186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358000">
            <a:off x="-360" y="3199680"/>
            <a:ext cx="534960" cy="380880"/>
          </a:xfrm>
          <a:prstGeom prst="flowChartDocumen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romantic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11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32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ienza la guerra de la Independenc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13120" y="68580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137160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imera guerra carlista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62920" y="4572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74080" y="137160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740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abel II es declarada mayor de edad c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13 añ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18288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66688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3480" y="1917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nando VII deroga la Constit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12920" y="304920"/>
            <a:ext cx="1067040" cy="99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137484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04920"/>
            <a:ext cx="1143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nunciamiento de Riego: el rey se ve obligad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jurar la Constit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26160" y="2590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17524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y de amnistía: vuelven los liberales exiliado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640" y="4495680"/>
            <a:ext cx="10666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4191120"/>
            <a:ext cx="1066680" cy="228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45720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eandro Fernández de Moratín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sí d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s niñ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03440" y="46483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434340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8280" y="46483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Lar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comienza a publicar sus      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Artículo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84920" y="48006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449568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0120" y="48006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écqu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comienz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ublica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im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3124080"/>
            <a:ext cx="11430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osé 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08-181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84120" y="4572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45720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s Corte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de Cádiz promulga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primera Constitución Españo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22760" y="1676520"/>
            <a:ext cx="1066680" cy="9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26701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167652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s Cien mil hijos de San Luis restauran el absolutismo en Españ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37560" y="196848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265428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2400" y="20858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gunda guerra carl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28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288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028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69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934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2362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6748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18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27320" y="4419720"/>
            <a:ext cx="1067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114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4495680"/>
            <a:ext cx="106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l duque de Riv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on Álvaro o la fuerza del si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41920" y="5715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53080" y="541008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57913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Zorrill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estren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on Juan Tenori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22960" y="50292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47242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4120" y="51055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pronce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 estudiante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de Salaman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53452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629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87692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4864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86728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20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1200" cy="727200"/>
          </a:xfrm>
          <a:prstGeom prst="rect">
            <a:avLst/>
          </a:prstGeom>
          <a:ln w="0">
            <a:noFill/>
          </a:ln>
        </p:spPr>
      </p:pic>
      <p:pic>
        <p:nvPicPr>
          <p:cNvPr id="490" name="21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491" name="22" descr=""/>
          <p:cNvPicPr/>
          <p:nvPr/>
        </p:nvPicPr>
        <p:blipFill>
          <a:blip r:embed="rId3"/>
          <a:stretch/>
        </p:blipFill>
        <p:spPr>
          <a:xfrm>
            <a:off x="2209680" y="5181480"/>
            <a:ext cx="646200" cy="838440"/>
          </a:xfrm>
          <a:prstGeom prst="rect">
            <a:avLst/>
          </a:prstGeom>
          <a:ln w="0">
            <a:noFill/>
          </a:ln>
        </p:spPr>
      </p:pic>
      <p:pic>
        <p:nvPicPr>
          <p:cNvPr id="492" name="23" descr=""/>
          <p:cNvPicPr/>
          <p:nvPr/>
        </p:nvPicPr>
        <p:blipFill>
          <a:blip r:embed="rId4"/>
          <a:stretch/>
        </p:blipFill>
        <p:spPr>
          <a:xfrm>
            <a:off x="8318520" y="4876920"/>
            <a:ext cx="696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124080"/>
            <a:ext cx="2666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sabel II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43-186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43200" y="3124080"/>
            <a:ext cx="2133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xenio Revolucionario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68-187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3124080"/>
            <a:ext cx="1904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75-188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3124080"/>
            <a:ext cx="23623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 de María Cristin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85-190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real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1120" y="16765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167652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en Francia. Manifiesto comun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62920" y="4572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74080" y="137160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74080" y="4572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Nace Alfonso XIII, hijo póstumo de Alfonso XI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1523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6160" y="259092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1600200"/>
            <a:ext cx="12841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nunciamiento de Martínez Campos: restauración d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monarquí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9720" y="51055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480060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51814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ernán Caballer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Gaviot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60640" y="5715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541008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Galdós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escribe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Fontan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Or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84920" y="563580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53308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56358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Emilia Pardo Bazán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os pazos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 Ullo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84120" y="91440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927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n de la segunda guerra carl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27320" y="419112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3886200"/>
            <a:ext cx="10670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8480" y="4267080"/>
            <a:ext cx="106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Juan Valer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Pepita Jiménez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13320" y="42670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24480" y="396252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34340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larí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Regent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22960" y="54864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5181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556272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aldó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 deshereda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1360" y="838080"/>
            <a:ext cx="1066680" cy="46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137484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8380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clamación de la I Repúbl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60640" y="1755720"/>
            <a:ext cx="10666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1800" y="2597040"/>
            <a:ext cx="10666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75248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stall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La Gloriosa”: destronamiento de Isabel I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65360" y="449568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76520" y="41911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4572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écquer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su primera leyen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2767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743200" y="365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7816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674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72428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428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288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096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2296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24" descr=""/>
          <p:cNvPicPr/>
          <p:nvPr/>
        </p:nvPicPr>
        <p:blipFill>
          <a:blip r:embed="rId1"/>
          <a:stretch/>
        </p:blipFill>
        <p:spPr>
          <a:xfrm>
            <a:off x="6629400" y="560520"/>
            <a:ext cx="685800" cy="658800"/>
          </a:xfrm>
          <a:prstGeom prst="rect">
            <a:avLst/>
          </a:prstGeom>
          <a:ln w="0">
            <a:noFill/>
          </a:ln>
        </p:spPr>
      </p:pic>
      <p:pic>
        <p:nvPicPr>
          <p:cNvPr id="556" name="25" descr=""/>
          <p:cNvPicPr/>
          <p:nvPr/>
        </p:nvPicPr>
        <p:blipFill>
          <a:blip r:embed="rId2"/>
          <a:stretch/>
        </p:blipFill>
        <p:spPr>
          <a:xfrm>
            <a:off x="3809880" y="5943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3124080"/>
            <a:ext cx="3962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gencia de María Cristin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885-190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48320" y="3124080"/>
            <a:ext cx="4038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02-193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El modernis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1120" y="1219320"/>
            <a:ext cx="106704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259092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320" y="1219320"/>
            <a:ext cx="11318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acto de El Pardo: alternancia pacífica e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poder de conservadore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y liber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22960" y="167652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2590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16765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fonso XIII alcanz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la mayoría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eda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65960" y="8380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77120" y="1447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24480" y="838080"/>
            <a:ext cx="128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mana trágica” de Barcelo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9720" y="5711760"/>
            <a:ext cx="1067040" cy="68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540720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578808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zul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6960" y="5715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8120" y="541008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alvador Rued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n trope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4920" y="5711760"/>
            <a:ext cx="106704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96080" y="54100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571500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Unamun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Niebl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84120" y="990720"/>
            <a:ext cx="10670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95280" y="160020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1066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 inicia la guerra de Cub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434340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97360" y="403848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97360" y="4419720"/>
            <a:ext cx="1066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Times New Roman"/>
              </a:rPr>
              <a:t>Azorín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, Baroj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 Maeztu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redactan el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Manifiesto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13320" y="4343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24480" y="40384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48520" y="44197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amón Jíménez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ejías pur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22960" y="5715000"/>
            <a:ext cx="1066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34120" y="54100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4120" y="571500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ntonio Macha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oledad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08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20120" y="25909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190512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icio de la Primera Guerra Mund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03440" y="205740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14600" y="2590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20574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urrecció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 Filipin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41320" y="434340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4038480"/>
            <a:ext cx="10670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76520" y="4419720"/>
            <a:ext cx="12189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ubén Darío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cude a España con motivo del IV Centenario del Descubrimiento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68760" y="380880"/>
            <a:ext cx="1066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68760" y="1447920"/>
            <a:ext cx="10666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57600" y="45720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l “Desastre”: pérdida de Cuba, Puerto Ric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 Filipina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028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53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4197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19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2296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27" descr=""/>
          <p:cNvPicPr/>
          <p:nvPr/>
        </p:nvPicPr>
        <p:blipFill>
          <a:blip r:embed="rId1"/>
          <a:stretch/>
        </p:blipFill>
        <p:spPr>
          <a:xfrm>
            <a:off x="8001000" y="1066680"/>
            <a:ext cx="646200" cy="838440"/>
          </a:xfrm>
          <a:prstGeom prst="rect">
            <a:avLst/>
          </a:prstGeom>
          <a:ln w="0">
            <a:noFill/>
          </a:ln>
        </p:spPr>
      </p:pic>
      <p:pic>
        <p:nvPicPr>
          <p:cNvPr id="619" name="30" descr=""/>
          <p:cNvPicPr/>
          <p:nvPr/>
        </p:nvPicPr>
        <p:blipFill>
          <a:blip r:embed="rId2"/>
          <a:stretch/>
        </p:blipFill>
        <p:spPr>
          <a:xfrm>
            <a:off x="4952880" y="5715000"/>
            <a:ext cx="63036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29" descr=""/>
          <p:cNvPicPr/>
          <p:nvPr/>
        </p:nvPicPr>
        <p:blipFill>
          <a:blip r:embed="rId3"/>
          <a:stretch/>
        </p:blipFill>
        <p:spPr>
          <a:xfrm>
            <a:off x="4632480" y="4800600"/>
            <a:ext cx="625320" cy="762120"/>
          </a:xfrm>
          <a:prstGeom prst="rect">
            <a:avLst/>
          </a:prstGeom>
          <a:ln w="0">
            <a:noFill/>
          </a:ln>
        </p:spPr>
      </p:pic>
      <p:pic>
        <p:nvPicPr>
          <p:cNvPr id="621" name="31" descr=""/>
          <p:cNvPicPr/>
          <p:nvPr/>
        </p:nvPicPr>
        <p:blipFill>
          <a:blip r:embed="rId4"/>
          <a:stretch/>
        </p:blipFill>
        <p:spPr>
          <a:xfrm>
            <a:off x="7238880" y="5715000"/>
            <a:ext cx="679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3124080"/>
            <a:ext cx="3962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fonso XIII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02-193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3124080"/>
            <a:ext cx="3809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gunda República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1931-193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33"/>
                </a:solidFill>
                <a:latin typeface="Times New Roman"/>
              </a:rPr>
              <a:t>La literatura de entreguerr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22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25909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34120" y="1917720"/>
            <a:ext cx="99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clamación de la Segunda Repúbl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89640" y="83808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00800" y="14479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248520" y="838080"/>
            <a:ext cx="128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omienzo de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la guerra civi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9720" y="4419720"/>
            <a:ext cx="10670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411480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4920" y="4495680"/>
            <a:ext cx="1131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Filippo T. Marinetti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ublica el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 Manifiesto futurist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413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752480" y="259092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76520" y="1905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icio de la Primera Guerra Mund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08960" y="4419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0120" y="411480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44956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Muere </a:t>
            </a: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Federico García Lorc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6104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72200" y="5334120"/>
            <a:ext cx="10666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5638680"/>
            <a:ext cx="11318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erardo Dieg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publica la antologí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oesía español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1915-193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08960" y="1828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20120" y="2590920"/>
            <a:ext cx="10666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190512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Inicio de la Segunda Guerra Mundial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41520" y="1828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52680" y="259092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82880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imo de Rive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impone la Dictadu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358000">
            <a:off x="227880" y="3199680"/>
            <a:ext cx="534960" cy="38088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32240" y="53352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12952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46120"/>
            <a:ext cx="99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undimiento de la Bolsa de Nueva Yor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300800">
            <a:off x="8379720" y="3126600"/>
            <a:ext cx="534960" cy="533520"/>
          </a:xfrm>
          <a:prstGeom prst="flowChartDocumen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6040" y="7621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3716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76212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mana trágica” de Barcelo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76212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49440" y="1295280"/>
            <a:ext cx="106704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49440" y="83808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volución ru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65360" y="5864400"/>
            <a:ext cx="1066680" cy="68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6520" y="555948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00200" y="5940360"/>
            <a:ext cx="1131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Ramón Gómez de la Serna 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crea l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greguería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79760" y="4419720"/>
            <a:ext cx="1066680" cy="68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41148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44956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Juan Ramón Jiménez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a 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Platero y y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57600" y="563868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68760" y="533412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571500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imes New Roman"/>
              </a:rPr>
              <a:t>Ortega y Gasset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publica </a:t>
            </a: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La deshumanización </a:t>
            </a:r>
            <a:br>
              <a:rPr sz="1100"/>
            </a:br>
            <a:r>
              <a:rPr b="0" i="1" lang="es-ES_tradnl" sz="1100" spc="-1" strike="noStrike">
                <a:solidFill>
                  <a:srgbClr val="000000"/>
                </a:solidFill>
                <a:latin typeface="Times New Roman"/>
              </a:rPr>
              <a:t>del arte.</a:t>
            </a: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65760" y="44197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76920" y="4114800"/>
            <a:ext cx="10666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4495680"/>
            <a:ext cx="113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elebración del tricentenario de la muerte de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Góngor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532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34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343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0060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2670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072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990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20968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240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197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1911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7057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81532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36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620640" cy="838080"/>
          </a:xfrm>
          <a:prstGeom prst="rect">
            <a:avLst/>
          </a:prstGeom>
          <a:ln w="0">
            <a:noFill/>
          </a:ln>
        </p:spPr>
      </p:pic>
      <p:pic>
        <p:nvPicPr>
          <p:cNvPr id="693" name="35" descr=""/>
          <p:cNvPicPr/>
          <p:nvPr/>
        </p:nvPicPr>
        <p:blipFill>
          <a:blip r:embed="rId2"/>
          <a:stretch/>
        </p:blipFill>
        <p:spPr>
          <a:xfrm>
            <a:off x="3048120" y="54100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694" name="33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781200" cy="563400"/>
          </a:xfrm>
          <a:prstGeom prst="rect">
            <a:avLst/>
          </a:prstGeom>
          <a:ln w="0">
            <a:noFill/>
          </a:ln>
        </p:spPr>
      </p:pic>
      <p:pic>
        <p:nvPicPr>
          <p:cNvPr id="695" name="34" descr=""/>
          <p:cNvPicPr/>
          <p:nvPr/>
        </p:nvPicPr>
        <p:blipFill>
          <a:blip r:embed="rId4"/>
          <a:stretch/>
        </p:blipFill>
        <p:spPr>
          <a:xfrm>
            <a:off x="8305920" y="1506600"/>
            <a:ext cx="7617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1:04:47Z</dcterms:created>
  <dc:creator>_</dc:creator>
  <dc:description/>
  <dc:language>en-US</dc:language>
  <cp:lastModifiedBy>Administrador</cp:lastModifiedBy>
  <cp:lastPrinted>2003-01-29T16:51:09Z</cp:lastPrinted>
  <dcterms:modified xsi:type="dcterms:W3CDTF">2003-01-29T18:42:30Z</dcterms:modified>
  <cp:revision>122</cp:revision>
  <dc:subject/>
  <dc:title>Sin título de diapositiva</dc:title>
</cp:coreProperties>
</file>